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0AD-D958-480D-9EB8-20E198A7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DAB-1191-426E-842B-B50B336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8B2-56DA-4A86-8C9B-B0FA8309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FE0-5427-4AD7-9F3F-94610BBA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E441-E68F-40E1-9680-9B601128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18D8-794D-43C6-8E33-03D75DBA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49DB-CACC-49F0-901A-87A5E987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CF09-5278-4563-9252-9BDC1C3C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A107-D3CB-447C-A31E-D75931C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7A6B-A14A-44DC-8570-EED80B84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C670-E9ED-44B2-9899-D5131C5E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20B-74C1-43E2-921F-34D23E24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C7AB-3A1E-4487-B632-FD762302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1BAA-D7BC-490A-A71D-56DC441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D87C-9994-488E-8835-608FAE1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B8DA-47CC-4288-B186-2AADB468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271B-50BE-4B57-813F-42663E6C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B28C-BA47-4743-B1AF-E5D38186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CB4F-927F-4360-A9B2-DAC9551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AA9A-12E6-4F69-BD93-E2353A52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4AE02-C7F6-424F-97AB-961E8B9E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6252-98FF-47B7-8010-40A85820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11F-38E1-439F-841D-176442A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782F-D55C-4838-9779-38028ACA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918C4-976E-494E-8C5C-3ECFBB5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0CD9-7C08-4710-8F2F-09EC3EA0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4FC0-849C-4077-B7E0-D0FFA5C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03B0-B5A0-4DD4-812D-C74F9D0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F766-00CF-4A3E-8633-323FA525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4639-4448-4726-B8AB-C2C8FF67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B1A0-E490-4BA1-B872-D7BED99C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83002-9262-4D8B-8424-07426D88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4FD6-161A-47C6-9F20-A3B82357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16E-6F86-4D1F-8616-1C8191B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31D2-DA4E-40DA-AC09-73831C10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D622-8D26-419D-9AC4-46591A1E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F50D4-0157-4AF6-8357-666530D3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9C3DD-152F-47E5-AAE6-51F4FE7F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462D1-2825-4C00-AE12-E1150F7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D133-C96D-4D37-A6EA-95330399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4D9FD-B9C0-4E48-98E4-47401848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CBDDC-AAD0-4E83-95D5-3D758229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C6FB-7905-4074-8134-D32D6F20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540C-1F22-4D52-864A-4100FB98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5EE-B935-4FA1-8CA2-0E10044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E1A09-7DB4-4754-AD6B-960FCA94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5883-002A-46D0-9C7C-CE1FBD0F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3509C-4458-454A-ABDF-ABDED2DD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94B97-230A-4269-8509-C0DF3ECD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D7DC4-1ECA-45F0-B6E3-C5DD1BE8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1AB09-66B8-48EF-A171-4820288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131E-D5E9-41D3-A19E-7CC4FB5C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16C9A-5111-492B-830E-0AFFE23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88DFE-7803-4021-944A-11104B59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A8F6E-FDF9-487F-A564-60E82112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EEF-02E7-45B0-8BC1-021D121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3D69-596C-4480-B47D-D968E186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4DC-F0FD-4455-AE00-F88C1E7F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E48-FD3D-4CA5-9688-8DAE96D2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92C-70E2-497D-B778-7273E99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B6CC-B796-4D7B-885A-5B833229F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194-9D85-4258-8018-744ECE2896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4CA7-042E-42C0-871E-FFA8F7BE5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2A1E-E8FA-4CCD-A850-6D6AAD8B8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6121-416F-480C-A932-C86EACCEE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Combing your hair takes about 2 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ow long will each activity take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ark your estimated time on your response cards.</a:t>
            </a:r>
            <a:endParaRPr b="0" lang="en-US" sz="3600" spc="-1" strike="noStrike">
              <a:solidFill>
                <a:srgbClr val="696464"/>
              </a:solidFill>
              <a:latin typeface="Century Schoolbook"/>
            </a:endParaRPr>
          </a:p>
        </p:txBody>
      </p:sp>
      <p:pic>
        <p:nvPicPr>
          <p:cNvPr id="230" name="Picture 4" descr="C:\Documents and Settings\kcs user\Local Settings\Temporary Internet Files\Content.IE5\4X4X6ZGH\MCj03975200000[1].wmf"/>
          <p:cNvPicPr/>
          <p:nvPr/>
        </p:nvPicPr>
        <p:blipFill>
          <a:blip r:embed="rId1"/>
          <a:stretch/>
        </p:blipFill>
        <p:spPr>
          <a:xfrm>
            <a:off x="3962520" y="4038480"/>
            <a:ext cx="15224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Opening a gift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1 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7" name="Picture 2" descr="C:\Documents and Settings\kcs user\Local Settings\Temporary Internet Files\Content.IE5\4X4X6ZGH\MCj04237860000[1].wmf"/>
          <p:cNvPicPr/>
          <p:nvPr/>
        </p:nvPicPr>
        <p:blipFill>
          <a:blip r:embed="rId1"/>
          <a:stretch/>
        </p:blipFill>
        <p:spPr>
          <a:xfrm>
            <a:off x="3276720" y="2209680"/>
            <a:ext cx="27748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Baking a cake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1 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3" name="Picture 2" descr="C:\Documents and Settings\kcs user\Local Settings\Temporary Internet Files\Content.IE5\CRN3A4TD\MCj02956530000[1].wmf"/>
          <p:cNvPicPr/>
          <p:nvPr/>
        </p:nvPicPr>
        <p:blipFill>
          <a:blip r:embed="rId1"/>
          <a:stretch/>
        </p:blipFill>
        <p:spPr>
          <a:xfrm>
            <a:off x="2590920" y="2286000"/>
            <a:ext cx="35589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ying shoes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3 _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6" name="Picture 2" descr="C:\Documents and Settings\kcs user\Local Settings\Temporary Internet Files\Content.IE5\4X4X6ZGH\MCBD09454_0000[1].wmf"/>
          <p:cNvPicPr/>
          <p:nvPr/>
        </p:nvPicPr>
        <p:blipFill>
          <a:blip r:embed="rId1"/>
          <a:stretch/>
        </p:blipFill>
        <p:spPr>
          <a:xfrm>
            <a:off x="2895480" y="2514600"/>
            <a:ext cx="27511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Watching a movie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2 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9" name="Picture 2" descr="C:\Documents and Settings\kcs user\Local Settings\Temporary Internet Files\Content.IE5\EZ6VM5MZ\MCj02321510000[1].wmf"/>
          <p:cNvPicPr/>
          <p:nvPr/>
        </p:nvPicPr>
        <p:blipFill>
          <a:blip r:embed="rId1"/>
          <a:stretch/>
        </p:blipFill>
        <p:spPr>
          <a:xfrm>
            <a:off x="2590920" y="2590920"/>
            <a:ext cx="36828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rawing a picture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5 _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2" name="Picture 2" descr="C:\Documents and Settings\kcs user\Local Settings\Temporary Internet Files\Content.IE5\4X4X6ZGH\MCj03982730000[1].wmf"/>
          <p:cNvPicPr/>
          <p:nvPr/>
        </p:nvPicPr>
        <p:blipFill>
          <a:blip r:embed="rId1"/>
          <a:stretch/>
        </p:blipFill>
        <p:spPr>
          <a:xfrm>
            <a:off x="2590920" y="2209680"/>
            <a:ext cx="370980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Playing at the beach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4 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5" name="Picture 2" descr="C:\Documents and Settings\kcs user\Local Settings\Temporary Internet Files\Content.IE5\EZ6VM5MZ\MCj04247420000[1].wmf"/>
          <p:cNvPicPr/>
          <p:nvPr/>
        </p:nvPicPr>
        <p:blipFill>
          <a:blip r:embed="rId1"/>
          <a:stretch/>
        </p:blipFill>
        <p:spPr>
          <a:xfrm>
            <a:off x="2286000" y="1981080"/>
            <a:ext cx="35179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Doing a puzzle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3 __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8" name="Picture 4" descr="C:\Documents and Settings\kcs user\Local Settings\Temporary Internet Files\Content.IE5\BB9VZ9OW\MCj02329100000[1].wmf"/>
          <p:cNvPicPr/>
          <p:nvPr/>
        </p:nvPicPr>
        <p:blipFill>
          <a:blip r:embed="rId1"/>
          <a:stretch/>
        </p:blipFill>
        <p:spPr>
          <a:xfrm>
            <a:off x="2971800" y="2209680"/>
            <a:ext cx="33307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Brushing your teeth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2 _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1" name="Picture 2" descr="C:\Documents and Settings\kcs user\Local Settings\Temporary Internet Files\Content.IE5\CRN3A4TD\MCj04240180000[1].wmf"/>
          <p:cNvPicPr/>
          <p:nvPr/>
        </p:nvPicPr>
        <p:blipFill>
          <a:blip r:embed="rId1"/>
          <a:stretch/>
        </p:blipFill>
        <p:spPr>
          <a:xfrm>
            <a:off x="3657600" y="2209680"/>
            <a:ext cx="222552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Going on a trip…</a:t>
            </a:r>
            <a:endParaRPr b="0" lang="en-US" sz="4000" spc="-1" strike="noStrike">
              <a:solidFill>
                <a:srgbClr val="696464"/>
              </a:solidFill>
              <a:latin typeface="Century School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Takes about 7 _________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4" name="Picture 3" descr="C:\Documents and Settings\kcs user\Local Settings\Temporary Internet Files\Content.IE5\BB9VZ9OW\MCj04273290000[1].wmf"/>
          <p:cNvPicPr/>
          <p:nvPr/>
        </p:nvPicPr>
        <p:blipFill>
          <a:blip r:embed="rId1"/>
          <a:stretch/>
        </p:blipFill>
        <p:spPr>
          <a:xfrm>
            <a:off x="3048120" y="2362320"/>
            <a:ext cx="38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9:56:10Z</dcterms:created>
  <dc:creator>Shady Brook</dc:creator>
  <dc:description/>
  <dc:language>en-US</dc:language>
  <cp:lastModifiedBy>Shady Brook</cp:lastModifiedBy>
  <dcterms:modified xsi:type="dcterms:W3CDTF">2008-11-24T20:30:06Z</dcterms:modified>
  <cp:revision>5</cp:revision>
  <dc:subject/>
  <dc:title>How long will each activity take? Mark your estimated time on your respons cards.</dc:title>
</cp:coreProperties>
</file>